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00C-9583-4A12-B136-3C1EFA4E8DA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075-751F-43C3-9B3C-47239CDDD69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BD0-147A-4263-8D7B-17886D71076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99680" y="299880"/>
            <a:ext cx="59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Using self-describing data formats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dfgroup.org/" TargetMode="External"/><Relationship Id="rId2" Type="http://schemas.openxmlformats.org/officeDocument/2006/relationships/hyperlink" Target="http://www.hdfgroup.org/" TargetMode="External"/><Relationship Id="rId3" Type="http://schemas.openxmlformats.org/officeDocument/2006/relationships/hyperlink" Target="http://hdfeos.org/" TargetMode="External"/><Relationship Id="rId4" Type="http://schemas.openxmlformats.org/officeDocument/2006/relationships/hyperlink" Target="http://www.unidata.ucar.edu/software/netcdf" TargetMode="External"/><Relationship Id="rId5" Type="http://schemas.openxmlformats.org/officeDocument/2006/relationships/hyperlink" Target="http://cf-pcmdi.llnl.gov/" TargetMode="Externa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Forma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Using self-describing data forma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www.hdfgroup.or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-EOS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hdfeos.or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etCD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unidata.ucar.edu/software/netc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http://cf-pcmdi.llnl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hoosing and adopting community accepted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uilding understandable spreadshe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f-describing data formats have become a well accepted way of archiving and disseminating scientific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fore self-describing data formats became widely used, each project often invented their own data formats, often raw binary or even ASCII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se approaches had a number of problem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achine dependent byte ordering or floating point organiz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ired a ‘key’ to be able to open the file and read the righ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ew custom reader is needed for each different data organization.  Working in a new language could be very difficult since you have to redevelop the reader anew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lf-describing data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ormation describing the data contents of the file are embedded within the data file itself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es for various fiel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types – Standardized, portable, machine independ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inters to various fields, making it efficient to extract the particular fields you want without reading the entir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es and flags related to the primary fields with extra information such as units, fill values, etc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a standard API and portable data access libraries in a variety of languag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tools that can open and work with arbitrary files, using the embedded descriptions to interpret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osing a self-describing format is a good first step, but it isn’t a panacea.  You still have to decide how to encode your data into the form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nk carefully about the how you use the forma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yout of data within th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ambiguous names for fields; Use standard names if possi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i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l val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Keep the users/readers of your files in min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formats support seamless internal compression that can help with file siz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project had to distribute NORAD Two-Line Element (TLE) S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s a small amount of data, in a well defined format within ASCII, widely used and comm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CII isn’t the best format, but for a small amount of data like this, especially in a widely used and understood format, it would have been fine.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ople understand the TLE format and have standard ways to parse it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vertheless, it isn’t self-describing, and people unfamiliar with TLE wouldn’t have a clue what those numbers mea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y chose to encode into H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TextBox 3"/>
          <p:cNvSpPr/>
          <p:nvPr/>
        </p:nvSpPr>
        <p:spPr>
          <a:xfrm>
            <a:off x="2921040" y="29718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39900U 10123A 10249.02432654 .00000388 00001-0 14877-3 0 3039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39900 098.6793 188.3954 0009896 294.6098 065.4121 14.19557889216547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 (cont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traightforward encoding would be to parse the fields, create fields with the right types (floating point) and name them according to their actual content from the TLE spec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y chose instead to maintain the ASCII text, encoding the individual characters of the file in their raw numerical form as an array of byt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 read this data from the HDF file, you first have to extract the ASCII bytes, then parse yourself according to the TLE spec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ther than attaching metadata to the data fields, they created a separate empty dataset just to hold the meta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s just bizarre.  Don’t do it like th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 (cont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Content Placeholder 3" descr="hdfview_TLE_1.jpg"/>
          <p:cNvPicPr/>
          <p:nvPr/>
        </p:nvPicPr>
        <p:blipFill>
          <a:blip r:embed="rId1"/>
          <a:stretch/>
        </p:blipFill>
        <p:spPr>
          <a:xfrm>
            <a:off x="711360" y="2057400"/>
            <a:ext cx="5486400" cy="7431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hdfview_TLE_3.jpg"/>
          <p:cNvPicPr/>
          <p:nvPr/>
        </p:nvPicPr>
        <p:blipFill>
          <a:blip r:embed="rId2"/>
          <a:stretch/>
        </p:blipFill>
        <p:spPr>
          <a:xfrm>
            <a:off x="6273720" y="2057400"/>
            <a:ext cx="5486400" cy="743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0-22T01:34:23Z</dcterms:modified>
  <cp:revision>42</cp:revision>
  <dc:subject/>
  <dc:title>ESIP Federation 101</dc:title>
</cp:coreProperties>
</file>